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F7D-F8F4-48BD-9B51-4E4F9595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77B-8DA2-4AB9-8A0D-D0F494F9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8F2-22A7-4044-9F3E-B3DE78E8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957-BB89-4EDC-B3F4-B13455FE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DDAB-3764-44D7-84DA-251F9484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70B0-12AA-48F9-A938-076BDA7A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A827-4737-4B46-A870-C32A9BB0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0B05-453C-4FDF-990F-E9D163B2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72E7-C112-499E-B6C1-8440A17D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9904-9B81-459E-8EAB-D62ED796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FD26-B9C5-4737-BB10-AE3C80D9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4F6-E54C-47A3-9796-D18A4862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BF44-75FA-443B-AD49-83FD16C8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9B73-8E3F-4C19-908C-EF79AF33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5E0D-800D-47A0-BEE2-1239468A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7615-8BFC-4047-9BD1-BE4095B0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E67E-7F14-4D53-9CFB-62DBBCD4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5BAB8-A8B5-418A-9105-A749AF98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11644-C632-473A-AF51-53ACEA42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D0ECC-CFAE-4A8D-9A5D-8561621F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05481-5571-444F-AA7B-2AA4543F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8AA6D-6162-48BA-8571-1E9FCE42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842-90ED-419B-8E19-D66C2947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EB1DE-6194-4194-BB45-35730B7E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A877-FC90-4F11-9B5C-02A59033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74F37-1CE8-4922-9964-A0FB2E2A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CE80C-42BB-4E39-8071-303DC535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9D1D3-CEC5-4CB7-878F-480677E0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5D5C-E194-44C4-A4A6-3C7E90DB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44B7D-C0D3-4666-B15F-CCC0EE3B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89418-BC43-4AE2-95A3-12598E1B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EAA6C-9DE4-4D64-906C-9470D541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7A99F-60DA-4D8F-AA9E-34D260A6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EA2-BC80-409C-8C47-0E571ED0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4A6B2-BEA1-4BF1-99F5-71843D50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87584-8FF7-4BA6-9BAE-CA1CA1A4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E78CE-1112-4716-8E82-203D4DE2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D7460-A3C7-4E8C-BE69-AA10AB87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0351-D1B7-4742-8493-8B4B1A70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81F1C-14BD-443C-AB1B-52C881DC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4FC58-06B6-42CC-BDB2-25C42C73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59758-3DDB-4AFC-8FC1-CC9E7505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95777-EE0C-4443-A2BB-A64ED029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00D48-E1FD-4D65-B65A-3D60A14B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484-3672-4C1E-A118-D954E037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BDEA7-56E6-41CF-8442-A70EF998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EFD81-0177-497B-A620-EA866A6E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E1012-9FDF-41E4-9948-B7811532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7113F-96BB-483D-8B11-3E62A075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281E5-2A86-4682-BC65-31C16C9A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4CE0A-CA8B-4C1A-A520-0130983C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8E609-0A44-4C6A-8235-C33995F0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ED399-42CE-4ECF-9222-E9C59090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B1236-62E3-4B61-BC11-529CC686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767E1-A518-4701-89E2-3D916D1D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050-1670-4AC4-BB81-2B0E9661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4C90B-7156-4266-90FE-DC150743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222E0-8058-4C99-B3A4-89BF5EC7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AAD6F-0611-4943-AFE9-6D31290C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99629-1A35-4365-954E-215C2346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B9B97-730E-4662-9CE7-013270D1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13D83-A12F-44EA-8A7E-9FC4763A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68717-7472-4855-ADE1-2064B8D1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B6121-3714-42E7-BB71-B18D6B2C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64D8B-7472-431A-8FBD-5E6F2B2F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2E5E2-CBEF-40BA-BB41-2E761A96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C0C-DBD7-4D34-9CA2-901DE1AD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9C130-5949-47AF-8AFB-40B78912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4CE8C-B5FE-49C9-90C3-81D00B6A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5199F-22F6-4472-9A78-68F1AED6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DEB0E-AE79-4433-9A97-C65B97C9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7E0E4-1E08-4509-9F07-4B660591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4D384-E228-4537-8B47-5CAA9CB9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B7885-830B-4E12-B0B5-7C977C37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82103-AFC1-47A6-909B-6F734D4E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83D64-A71B-4471-B182-B6D29038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5F2F7-D1C1-49F0-B085-092147D1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8A8-E020-4A8C-B4C4-F1C0C375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B3F18-9B68-4D0F-8C0A-AA900511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8ED76-D4CB-4E07-8053-9BB80D28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F1BBE-2294-4E6F-ABB5-DDB67F8D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7DDCF-F98A-40DD-BC2F-F9DBDFD9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5FCF5-0BFB-44EE-A5CA-47BD19DF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1BB-DB6C-4456-B959-733EE72A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E364-11A4-47E9-A308-3200F6511F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선 연결선 6"/>
          <p:cNvSpPr/>
          <p:nvPr/>
        </p:nvSpPr>
        <p:spPr>
          <a:xfrm>
            <a:off x="1285920" y="3643200"/>
            <a:ext cx="650088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571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28400" y="6356520"/>
            <a:ext cx="22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3438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F288-2888-462D-909F-734619F589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선 연결선 6"/>
          <p:cNvSpPr/>
          <p:nvPr/>
        </p:nvSpPr>
        <p:spPr>
          <a:xfrm>
            <a:off x="500040" y="1357200"/>
            <a:ext cx="678672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ABDF-0FCF-4704-AEC1-88A28BB0FC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직선 연결선 6"/>
          <p:cNvSpPr/>
          <p:nvPr/>
        </p:nvSpPr>
        <p:spPr>
          <a:xfrm flipV="1">
            <a:off x="512640" y="4714560"/>
            <a:ext cx="8202600" cy="2844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A887-DC7D-4A80-8BB6-E31261D895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직선 연결선 6"/>
          <p:cNvSpPr/>
          <p:nvPr/>
        </p:nvSpPr>
        <p:spPr>
          <a:xfrm>
            <a:off x="500040" y="6215040"/>
            <a:ext cx="8143920" cy="144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A249-2C1B-40D8-A62D-F6182E08C9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직선 연결선 6"/>
          <p:cNvSpPr/>
          <p:nvPr/>
        </p:nvSpPr>
        <p:spPr>
          <a:xfrm>
            <a:off x="500040" y="1214280"/>
            <a:ext cx="757224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8ED8-D5BC-4529-A587-27072F03BE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F8E9-5EEC-4D1D-97C4-40C540296A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2" descr=""/>
          <p:cNvPicPr/>
          <p:nvPr/>
        </p:nvPicPr>
        <p:blipFill>
          <a:blip r:embed="rId1"/>
          <a:stretch/>
        </p:blipFill>
        <p:spPr>
          <a:xfrm>
            <a:off x="480960" y="2567160"/>
            <a:ext cx="8102520" cy="10112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000080" y="3929040"/>
            <a:ext cx="712944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sica Nance, Hyorim Park, Deepa Raj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9266400" cy="12448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ositive Distraction for th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ur of the Hospital’s 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gl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ellite view of other areas of the world (NYC, DC, grand canyon…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180560" cy="938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http://scienceroll.files.wordpress.com/2008/08/imperial-1-small.jpg"/>
          <p:cNvPicPr/>
          <p:nvPr/>
        </p:nvPicPr>
        <p:blipFill>
          <a:blip r:embed="rId2"/>
          <a:stretch/>
        </p:blipFill>
        <p:spPr>
          <a:xfrm>
            <a:off x="609480" y="1523880"/>
            <a:ext cx="3276720" cy="22910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http://www.popsci.com/files/imagecache/article_image_large/files/articles/GoogleEarth-Manhattan.jpg"/>
          <p:cNvPicPr/>
          <p:nvPr/>
        </p:nvPicPr>
        <p:blipFill>
          <a:blip r:embed="rId4"/>
          <a:stretch/>
        </p:blipFill>
        <p:spPr>
          <a:xfrm>
            <a:off x="609480" y="4038480"/>
            <a:ext cx="3276720" cy="24256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http://penfall.files.wordpress.com/2007/04/grand-canyon222.jpg"/>
          <p:cNvPicPr/>
          <p:nvPr/>
        </p:nvPicPr>
        <p:blipFill>
          <a:blip r:embed="rId5"/>
          <a:stretch/>
        </p:blipFill>
        <p:spPr>
          <a:xfrm>
            <a:off x="4114800" y="4038480"/>
            <a:ext cx="3581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are b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worsen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lack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s to stress and bore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realistic 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willing to w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제목 1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7437600" cy="12448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85640" y="1500120"/>
            <a:ext cx="8229600" cy="4626000"/>
          </a:xfrm>
          <a:prstGeom prst="rect">
            <a:avLst/>
          </a:prstGeom>
          <a:ln w="0">
            <a:noFill/>
          </a:ln>
        </p:spPr>
      </p:pic>
      <p:grpSp>
        <p:nvGrpSpPr>
          <p:cNvPr id="298" name="그룹 8"/>
          <p:cNvGrpSpPr/>
          <p:nvPr/>
        </p:nvGrpSpPr>
        <p:grpSpPr>
          <a:xfrm>
            <a:off x="685800" y="1523880"/>
            <a:ext cx="7620120" cy="4267440"/>
            <a:chOff x="685800" y="1523880"/>
            <a:chExt cx="7620120" cy="4267440"/>
          </a:xfrm>
        </p:grpSpPr>
        <p:sp>
          <p:nvSpPr>
            <p:cNvPr id="299" name="모서리가 둥근 직사각형 3"/>
            <p:cNvSpPr/>
            <p:nvPr/>
          </p:nvSpPr>
          <p:spPr>
            <a:xfrm>
              <a:off x="5715000" y="4572000"/>
              <a:ext cx="2590920" cy="1143000"/>
            </a:xfrm>
            <a:prstGeom prst="roundRect">
              <a:avLst>
                <a:gd name="adj" fmla="val 16667"/>
              </a:avLst>
            </a:prstGeom>
            <a:solidFill>
              <a:srgbClr val="a0c435"/>
            </a:solidFill>
            <a:ln w="22320">
              <a:solidFill>
                <a:srgbClr val="748f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Positive Distrac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모서리가 둥근 직사각형 4"/>
            <p:cNvSpPr/>
            <p:nvPr/>
          </p:nvSpPr>
          <p:spPr>
            <a:xfrm>
              <a:off x="685800" y="1523880"/>
              <a:ext cx="2590920" cy="1143000"/>
            </a:xfrm>
            <a:prstGeom prst="roundRect">
              <a:avLst>
                <a:gd name="adj" fmla="val 16667"/>
              </a:avLst>
            </a:prstGeom>
            <a:solidFill>
              <a:srgbClr val="a0c435"/>
            </a:solidFill>
            <a:ln w="22320">
              <a:solidFill>
                <a:srgbClr val="748f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Self Registr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모서리가 둥근 직사각형 5"/>
            <p:cNvSpPr/>
            <p:nvPr/>
          </p:nvSpPr>
          <p:spPr>
            <a:xfrm>
              <a:off x="685800" y="4648320"/>
              <a:ext cx="2590920" cy="1143000"/>
            </a:xfrm>
            <a:prstGeom prst="roundRect">
              <a:avLst>
                <a:gd name="adj" fmla="val 16667"/>
              </a:avLst>
            </a:prstGeom>
            <a:solidFill>
              <a:srgbClr val="a0c435"/>
            </a:solidFill>
            <a:ln w="22320">
              <a:solidFill>
                <a:srgbClr val="748f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Providing Inform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모서리가 둥근 직사각형 6"/>
            <p:cNvSpPr/>
            <p:nvPr/>
          </p:nvSpPr>
          <p:spPr>
            <a:xfrm>
              <a:off x="5715000" y="1523880"/>
              <a:ext cx="2590920" cy="1143000"/>
            </a:xfrm>
            <a:prstGeom prst="roundRect">
              <a:avLst>
                <a:gd name="adj" fmla="val 16667"/>
              </a:avLst>
            </a:prstGeom>
            <a:solidFill>
              <a:srgbClr val="a0c435"/>
            </a:solidFill>
            <a:ln w="22320">
              <a:solidFill>
                <a:srgbClr val="748f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Monitoring Vital Sig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3" name="Picture 2" descr=""/>
          <p:cNvPicPr/>
          <p:nvPr/>
        </p:nvPicPr>
        <p:blipFill>
          <a:blip r:embed="rId3"/>
          <a:stretch/>
        </p:blipFill>
        <p:spPr>
          <a:xfrm>
            <a:off x="3657600" y="2971800"/>
            <a:ext cx="1838160" cy="1557360"/>
          </a:xfrm>
          <a:prstGeom prst="rect">
            <a:avLst/>
          </a:prstGeom>
          <a:ln w="0">
            <a:noFill/>
          </a:ln>
        </p:spPr>
      </p:pic>
      <p:cxnSp>
        <p:nvCxnSpPr>
          <p:cNvPr id="304" name="Shape 14"/>
          <p:cNvCxnSpPr>
            <a:endCxn id="302" idx="2"/>
          </p:cNvCxnSpPr>
          <p:nvPr/>
        </p:nvCxnSpPr>
        <p:spPr>
          <a:xfrm flipV="1">
            <a:off x="5486040" y="2666160"/>
            <a:ext cx="1524600" cy="686520"/>
          </a:xfrm>
          <a:prstGeom prst="bentConnector2">
            <a:avLst/>
          </a:prstGeom>
          <a:ln w="31680">
            <a:solidFill>
              <a:srgbClr val="a0c435"/>
            </a:solidFill>
            <a:miter/>
          </a:ln>
        </p:spPr>
      </p:cxnSp>
      <p:cxnSp>
        <p:nvCxnSpPr>
          <p:cNvPr id="305" name="Shape 16"/>
          <p:cNvCxnSpPr>
            <a:endCxn id="299" idx="0"/>
          </p:cNvCxnSpPr>
          <p:nvPr/>
        </p:nvCxnSpPr>
        <p:spPr>
          <a:xfrm>
            <a:off x="5486040" y="4038480"/>
            <a:ext cx="1524600" cy="534240"/>
          </a:xfrm>
          <a:prstGeom prst="bentConnector2">
            <a:avLst/>
          </a:prstGeom>
          <a:ln w="31680">
            <a:solidFill>
              <a:srgbClr val="a0c435"/>
            </a:solidFill>
            <a:miter/>
          </a:ln>
        </p:spPr>
      </p:cxnSp>
      <p:cxnSp>
        <p:nvCxnSpPr>
          <p:cNvPr id="306" name="Shape 18"/>
          <p:cNvCxnSpPr>
            <a:endCxn id="300" idx="2"/>
          </p:cNvCxnSpPr>
          <p:nvPr/>
        </p:nvCxnSpPr>
        <p:spPr>
          <a:xfrm rot="10800000">
            <a:off x="1980360" y="2666160"/>
            <a:ext cx="1677240" cy="686520"/>
          </a:xfrm>
          <a:prstGeom prst="bentConnector2">
            <a:avLst/>
          </a:prstGeom>
          <a:ln w="31680">
            <a:solidFill>
              <a:srgbClr val="a0c435"/>
            </a:solidFill>
            <a:miter/>
          </a:ln>
        </p:spPr>
      </p:cxnSp>
      <p:cxnSp>
        <p:nvCxnSpPr>
          <p:cNvPr id="307" name="Shape 20"/>
          <p:cNvCxnSpPr>
            <a:endCxn id="301" idx="0"/>
          </p:cNvCxnSpPr>
          <p:nvPr/>
        </p:nvCxnSpPr>
        <p:spPr>
          <a:xfrm flipV="1" rot="10800000">
            <a:off x="1980360" y="4038120"/>
            <a:ext cx="1677240" cy="610560"/>
          </a:xfrm>
          <a:prstGeom prst="bentConnector2">
            <a:avLst/>
          </a:prstGeom>
          <a:ln w="31680">
            <a:solidFill>
              <a:srgbClr val="a0c435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receiving the ER Assistant the patient will be asked to enter that information into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formation will be sent to the reception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fully functionality will allow for integration with the hospitals EH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제목 5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78152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IMG_0777"/>
          <p:cNvPicPr/>
          <p:nvPr/>
        </p:nvPicPr>
        <p:blipFill>
          <a:blip r:embed="rId2"/>
          <a:stretch/>
        </p:blipFill>
        <p:spPr>
          <a:xfrm>
            <a:off x="609480" y="1600200"/>
            <a:ext cx="3276720" cy="2133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IMG_0782"/>
          <p:cNvPicPr/>
          <p:nvPr/>
        </p:nvPicPr>
        <p:blipFill>
          <a:blip r:embed="rId3"/>
          <a:stretch/>
        </p:blipFill>
        <p:spPr>
          <a:xfrm>
            <a:off x="4114800" y="1600200"/>
            <a:ext cx="3124080" cy="2057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"/>
          <p:cNvPicPr/>
          <p:nvPr/>
        </p:nvPicPr>
        <p:blipFill>
          <a:blip r:embed="rId4"/>
          <a:stretch/>
        </p:blipFill>
        <p:spPr>
          <a:xfrm>
            <a:off x="609480" y="396252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4191120" y="3962520"/>
            <a:ext cx="3124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047080" cy="1244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s vital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ssistant will have an attachment that will take the patients vital sig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will be loaded to a screen for the nurses to monitor while the patient is in the waiting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구름 7"/>
          <p:cNvSpPr/>
          <p:nvPr/>
        </p:nvSpPr>
        <p:spPr>
          <a:xfrm>
            <a:off x="3048120" y="2971800"/>
            <a:ext cx="1523880" cy="1447920"/>
          </a:xfrm>
          <a:prstGeom prst="pie">
            <a:avLst/>
          </a:prstGeom>
          <a:solidFill>
            <a:srgbClr val="ffffff"/>
          </a:solidFill>
          <a:ln w="22320">
            <a:solidFill>
              <a:srgbClr val="748f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4952880" y="2109960"/>
            <a:ext cx="3767400" cy="2995560"/>
          </a:xfrm>
          <a:prstGeom prst="rect">
            <a:avLst/>
          </a:prstGeom>
          <a:ln w="0">
            <a:noFill/>
          </a:ln>
        </p:spPr>
      </p:pic>
      <p:pic>
        <p:nvPicPr>
          <p:cNvPr id="319" name="제목 1" descr=""/>
          <p:cNvPicPr/>
          <p:nvPr/>
        </p:nvPicPr>
        <p:blipFill>
          <a:blip r:embed="rId2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://edmundsweightloss.com/images/generic_arm_band.bmp"/>
          <p:cNvPicPr/>
          <p:nvPr/>
        </p:nvPicPr>
        <p:blipFill>
          <a:blip r:embed="rId3"/>
          <a:stretch/>
        </p:blipFill>
        <p:spPr>
          <a:xfrm>
            <a:off x="609480" y="2133720"/>
            <a:ext cx="1981440" cy="3124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4"/>
          <a:stretch/>
        </p:blipFill>
        <p:spPr>
          <a:xfrm rot="21202800">
            <a:off x="5613480" y="2530080"/>
            <a:ext cx="2514600" cy="2106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"/>
          <p:cNvPicPr/>
          <p:nvPr/>
        </p:nvPicPr>
        <p:blipFill>
          <a:blip r:embed="rId5"/>
          <a:stretch/>
        </p:blipFill>
        <p:spPr>
          <a:xfrm>
            <a:off x="3429000" y="3276720"/>
            <a:ext cx="685800" cy="815760"/>
          </a:xfrm>
          <a:prstGeom prst="rect">
            <a:avLst/>
          </a:prstGeom>
          <a:ln w="0">
            <a:noFill/>
          </a:ln>
        </p:spPr>
      </p:pic>
      <p:sp>
        <p:nvSpPr>
          <p:cNvPr id="323" name="직선 연결선 9"/>
          <p:cNvSpPr/>
          <p:nvPr/>
        </p:nvSpPr>
        <p:spPr>
          <a:xfrm flipV="1">
            <a:off x="4343400" y="3606480"/>
            <a:ext cx="609480" cy="507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직선 연결선 11"/>
          <p:cNvSpPr/>
          <p:nvPr/>
        </p:nvSpPr>
        <p:spPr>
          <a:xfrm flipV="1">
            <a:off x="2514600" y="3352680"/>
            <a:ext cx="762120" cy="457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120160" cy="12448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Information about the wait that may be incurred and the triag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ing registration the device will inform the patient about estimated wait time for the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about the triage process and the ED will also be gi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85640" y="150012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3:05:30Z</dcterms:created>
  <dc:creator>gradstudent</dc:creator>
  <dc:description/>
  <dc:language>en-US</dc:language>
  <cp:lastModifiedBy>박효림</cp:lastModifiedBy>
  <dcterms:modified xsi:type="dcterms:W3CDTF">2008-10-28T19:03:08Z</dcterms:modified>
  <cp:revision>9</cp:revision>
  <dc:subject/>
  <dc:title>Personal ER Assistant ()</dc:title>
</cp:coreProperties>
</file>